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27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4DC-5CFF-44DE-842B-88C1CD73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6AF-E8D2-497F-B819-18787E3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C70-D851-4F39-A971-D2DAAF96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A61-5FB1-488C-B5F8-3B76114C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9630C-A4D1-4716-A3E3-A6A8146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7D526-EB27-4FBF-973C-29F8F73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DB6FA-115F-4601-86C2-BA5C894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C35D0-E9CE-4A13-9D94-6C86F98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8A571-9BC7-4511-B124-573BD02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1A213-BA3A-437E-8207-D11416A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43C2-B0CF-4B69-8901-4FF2A76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BCD-6301-4081-95F1-BED3A82E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9CCB5-9226-4CF9-A30A-F75517A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FB206-5702-475E-9CF2-6C7930A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36D5-3D0A-4990-9097-6515F869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23649-9666-4F9B-91E7-D8BDB24D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F4F23-BAC6-48E6-96F5-49BC7920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24F0-E15F-4F87-9BE2-1837F628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0327-45A1-43F6-810B-6A58DFC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7549-DFA7-4690-BF68-F85F7EB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6642-995B-4FD3-92AB-3C7033C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4225-5518-4B9C-854F-BFF9839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0EF-6262-46EF-B755-02BEE1A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DD01-5FA0-4C96-AEDD-B4094889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6547-85CB-4C56-8376-16DAF9C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CC93-01A1-4A5B-89C9-90A71E2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F167-7C74-43CD-8073-AC5B1BCC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56BC-B39F-48AD-86A8-D587F5A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191D-DF65-459E-AA2E-9F286062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3EDD-61C8-4126-BE34-CF550A08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A857-FAEF-47DF-ACA7-762C56CE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0701-E8EA-4537-8F54-0DEA110E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B652-84BA-4DAB-8336-D4699C77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FB0-5FCE-4250-8B74-0A5F644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4FD4-B0FA-4899-9E50-CD7BAE7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2BCDF-E707-4116-8DC1-9F7D0DD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4098-78E4-4F45-BCA3-CBF436BA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5836-83E6-409D-8141-8706628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A757-F1CB-4D37-AE62-DB72980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2EFB-EE00-4E56-9009-3377CF3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A54E-C28F-441B-8EEB-43A34E8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D21E-D3D6-45FF-90B5-F9244014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184A-92F3-48B3-A5D0-C2F8B054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C2B1-441C-43ED-BA13-4D33635B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932-3B60-40EB-B6C9-03530AC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084DF-A41C-47F8-A785-CBF6E504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CDEF-6565-400A-B120-1C83B78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2928B-F184-426E-A370-DD03F91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716E-BC58-4C87-8ADF-F439BBEE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D367-2E34-43F8-9F59-BDA7CB0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23CA-FB02-4D5B-B269-7ABC67C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4E36-3D4D-4B41-BC86-3816657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AE95-BCAD-4B8D-AB1C-9B96125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FDBC-25FC-4C1D-81C9-DD6B7992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C803-1459-4B81-8B40-31BDE8BC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47F-0A2C-4473-B624-E3B7002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27F7-4927-4B8C-BBC2-46D413CA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122-F3DF-43A8-ABFE-4B306A9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F79-20C9-47E7-82EE-E63A473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845-DA5C-4A20-AB4B-FF542CE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A5D0-86A1-4844-83CF-0187490AA82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B8BA-4037-4053-93CB-271DF7E426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80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81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88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89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92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95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96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97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Freeform 21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9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200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2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203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Freeform 27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5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206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Freeform 30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8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209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Freeform 33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1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212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Freeform 36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4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215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" name="Freeform 39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7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218" name="Freeform 41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Freeform 42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0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221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Group 46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224" name="Freeform 47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Freeform 48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227" name="Freeform 50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Freeform 51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9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231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234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235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236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Freeform 60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8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239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1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242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Freeform 66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4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45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Freeform 69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7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48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Freeform 72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0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51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Freeform 75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54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Freeform 78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6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57" name="Freeform 80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Freeform 81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9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60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" name="Group 85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63" name="Freeform 86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Freeform 87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5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66" name="Freeform 89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Freeform 90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8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70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2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77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81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953-4EAC-4E70-B9FF-2E0B45023FEC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7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32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33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6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8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9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40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41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44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7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50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1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53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4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5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6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8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9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1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62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4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65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7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368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0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71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4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75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7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8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9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80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1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83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4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6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9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92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95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7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8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9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0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401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3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404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6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407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9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10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2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3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14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4E96-3931-4494-8379-831E26825306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5"/>
          </p:nvPr>
        </p:nvSpPr>
        <p:spPr>
          <a:xfrm>
            <a:off x="6576840" y="6272280"/>
            <a:ext cx="1857600" cy="409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2164-7DBF-4519-9267-8F87B9AF78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youtube.com/watch?v=AOWZpu8vS0c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omework Bell Ring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hat Roman event started out as funeral games in honor of the dead.  Blood – especially humans – was regarded as a sacrifice to the dead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Twelve Tables (con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any person had sung or composed against another person a song such as was causing slander or insult to another....he should be clubbed to deat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a person has maimed another's limb, let there be retaliation in kind unless he makes agreement for composition with hi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he has broken or bruised a freemen's bone with his hand or a club, he shall undergo a penalty of 300 pieces; if a slave's, 150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 person who destroys by burning any building or heap of corn deposited alongside a house shall be bound, scourged, and put to death by burning at the stak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Arial"/>
              </a:rPr>
              <a:t>Twelve Tables (con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erson shall hold meetings by night in the cit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ting to death of any man, whosoever he might be, unconvicted is forbidd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ad man shall not be buried or burned within the cit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rriages) should not take place between plebeians and patrician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rson who had been found guilty of giving false witness shall be hurled down from the Tarpeian Rock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http://www.uncp.edu/home/rwb/punicwar_map.jpg"/>
          <p:cNvPicPr/>
          <p:nvPr/>
        </p:nvPicPr>
        <p:blipFill>
          <a:blip r:embed="rId1"/>
          <a:stretch/>
        </p:blipFill>
        <p:spPr>
          <a:xfrm>
            <a:off x="990720" y="304920"/>
            <a:ext cx="6391080" cy="41227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ome Conqu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Mediterranean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472392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unic Wa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ause: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th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- Port city in Africa by challenged Roman trade ov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ci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762120" y="464832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Events - Carthaginians hi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annibal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  <a:ea typeface="Arial"/>
              </a:rPr>
              <a:t>to invade Italy through Spain and the Alps. 46,000 troops, large number of horses, and 36 battle elephan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1" name="Picture 5" descr="map_punic_wars"/>
          <p:cNvPicPr/>
          <p:nvPr/>
        </p:nvPicPr>
        <p:blipFill>
          <a:blip r:embed="rId1"/>
          <a:stretch/>
        </p:blipFill>
        <p:spPr>
          <a:xfrm>
            <a:off x="1295280" y="152280"/>
            <a:ext cx="57913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Romans defeat Carthage – 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cim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” their numbers (line them up and kill every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ma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Rome now uncontested rulers of western Mediterrane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5181480" y="5181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Hannibal leading Carthage through the Al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4" name="Picture 4" descr="Hannibal"/>
          <p:cNvPicPr/>
          <p:nvPr/>
        </p:nvPicPr>
        <p:blipFill>
          <a:blip r:embed="rId4"/>
          <a:stretch/>
        </p:blipFill>
        <p:spPr>
          <a:xfrm>
            <a:off x="4541760" y="380880"/>
            <a:ext cx="4097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rowing Inequality and Social Unrest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enate had become the main governing body in Ro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Lifetime posi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ontrolled domestic and foreign affai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Small farmers were unable to compete with aristocrats who had large farms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tifund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 so they moved to the cities (unemployed masses – dangerous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7" name="Picture 4" descr="A_014_RomanSenate.jpg - 101999 Bytes"/>
          <p:cNvPicPr/>
          <p:nvPr/>
        </p:nvPicPr>
        <p:blipFill>
          <a:blip r:embed="rId5"/>
          <a:stretch/>
        </p:blipFill>
        <p:spPr>
          <a:xfrm>
            <a:off x="5257800" y="2057400"/>
            <a:ext cx="3733920" cy="24433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"/>
          <p:cNvSpPr/>
          <p:nvPr/>
        </p:nvSpPr>
        <p:spPr>
          <a:xfrm>
            <a:off x="5410080" y="4724280"/>
            <a:ext cx="358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racchi Broth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: Two aristocrats who tried to pass land reform bil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They were later killed by senators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man Army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Army was originally made up of small farmers who were landholders (protect their own propert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arius, a Roman general, began to recruit landless farmers using promises of land. (now “professional” – i.e. paid) also received “booty” from towns sacked – major part of income -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blem loyalty to general not “Rom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1" name="Picture 2" descr="http://25.media.tumblr.com/tumblr_map2ruZ7yC1rtn3ufo1_500.jpg"/>
          <p:cNvPicPr/>
          <p:nvPr/>
        </p:nvPicPr>
        <p:blipFill>
          <a:blip r:embed="rId3"/>
          <a:stretch/>
        </p:blipFill>
        <p:spPr>
          <a:xfrm>
            <a:off x="5181480" y="1066680"/>
            <a:ext cx="3651480" cy="2446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http://sermongold.com/wp-content/uploads/2010/11/Ft-Mac-03-testudo.jpg"/>
          <p:cNvPicPr/>
          <p:nvPr/>
        </p:nvPicPr>
        <p:blipFill>
          <a:blip r:embed="rId4"/>
          <a:stretch/>
        </p:blipFill>
        <p:spPr>
          <a:xfrm>
            <a:off x="5324400" y="3581280"/>
            <a:ext cx="3621240" cy="24415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"/>
          <p:cNvSpPr/>
          <p:nvPr/>
        </p:nvSpPr>
        <p:spPr>
          <a:xfrm>
            <a:off x="5867280" y="6048360"/>
            <a:ext cx="29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laybill"/>
              </a:rPr>
              <a:t>Testudo (Turtle) 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://orbat.com/site/maps/historical/roman_legions_organization.jpg"/>
          <p:cNvPicPr/>
          <p:nvPr/>
        </p:nvPicPr>
        <p:blipFill>
          <a:blip r:embed="rId2"/>
          <a:stretch/>
        </p:blipFill>
        <p:spPr>
          <a:xfrm>
            <a:off x="762120" y="947880"/>
            <a:ext cx="7667640" cy="591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2003760" y="22860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Leg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ca. 5000 soldie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Arial"/>
                <a:ea typeface="Arial"/>
              </a:rPr>
              <a:t>Army – Roman Enginee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queduc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(supplied wa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a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and bridges (connected Empi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Built forts (especially along borders) – som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0" name="Picture 5" descr="Roman Road Map"/>
          <p:cNvPicPr/>
          <p:nvPr/>
        </p:nvPicPr>
        <p:blipFill>
          <a:blip r:embed="rId4"/>
          <a:stretch/>
        </p:blipFill>
        <p:spPr>
          <a:xfrm>
            <a:off x="4267080" y="3873600"/>
            <a:ext cx="4229280" cy="2960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roman%20road"/>
          <p:cNvPicPr/>
          <p:nvPr/>
        </p:nvPicPr>
        <p:blipFill>
          <a:blip r:embed="rId5"/>
          <a:stretch/>
        </p:blipFill>
        <p:spPr>
          <a:xfrm>
            <a:off x="447840" y="4267080"/>
            <a:ext cx="3333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9" descr="Roman_aqueduct_from_Pools_of_Solomon_to_Jerusalem"/>
          <p:cNvPicPr/>
          <p:nvPr/>
        </p:nvPicPr>
        <p:blipFill>
          <a:blip r:embed="rId1"/>
          <a:stretch/>
        </p:blipFill>
        <p:spPr>
          <a:xfrm>
            <a:off x="5715000" y="228600"/>
            <a:ext cx="3429000" cy="23493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5" name="Picture 7" descr="image"/>
          <p:cNvPicPr/>
          <p:nvPr/>
        </p:nvPicPr>
        <p:blipFill>
          <a:blip r:embed="rId2"/>
          <a:stretch/>
        </p:blipFill>
        <p:spPr>
          <a:xfrm>
            <a:off x="168120" y="46080"/>
            <a:ext cx="4400640" cy="2857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Pont%20du%20Gard,%20Roman%20Aqueduct"/>
          <p:cNvPicPr/>
          <p:nvPr/>
        </p:nvPicPr>
        <p:blipFill>
          <a:blip r:embed="rId3"/>
          <a:stretch/>
        </p:blipFill>
        <p:spPr>
          <a:xfrm>
            <a:off x="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685800" y="1371600"/>
            <a:ext cx="73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Cooper Black"/>
              </a:rPr>
              <a:t>Early History of Rom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Cooper Black"/>
              </a:rPr>
              <a:t>1000 BC – 500 BC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lave/Gladiator Revolt</a:t>
            </a:r>
            <a:endParaRPr b="0" lang="en-US" sz="36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33200" y="1142640"/>
            <a:ext cx="606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dfda"/>
                </a:solidFill>
                <a:latin typeface="Arial"/>
                <a:ea typeface="Arial"/>
              </a:rPr>
              <a:t>Slaves (war captures and born into it) made up good chunk of peasant labor – Greeks often used as tu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parta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– gladiator who in 73 BC gathered together about 70,000 slaves and small herders/farmers to revolt against the Roman arm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rassu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uppressed revolt and crucified 6,000 of those captured. </a:t>
            </a:r>
            <a:r>
              <a:rPr b="0" lang="en-US" sz="1000" spc="-1" strike="noStrike" u="sng">
                <a:solidFill>
                  <a:srgbClr val="deb54e"/>
                </a:solidFill>
                <a:uFillTx/>
                <a:latin typeface="Arial"/>
                <a:ea typeface="Arial"/>
                <a:hlinkClick r:id="rId4"/>
              </a:rPr>
              <a:t>http://www.youtube.com/watch?v=AOWZpu8vS0c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9" name="Picture 5" descr="spartacus"/>
          <p:cNvPicPr/>
          <p:nvPr/>
        </p:nvPicPr>
        <p:blipFill>
          <a:blip r:embed="rId5"/>
          <a:stretch/>
        </p:blipFill>
        <p:spPr>
          <a:xfrm>
            <a:off x="304920" y="914400"/>
            <a:ext cx="2355840" cy="31240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http://2.bp.blogspot.com/-Ha0PSNcs6G4/T3N966MtJ5I/AAAAAAAALfA/boirRkgzEH8/s1600/%25281%2Bcrucified_.jpg"/>
          <p:cNvPicPr/>
          <p:nvPr/>
        </p:nvPicPr>
        <p:blipFill>
          <a:blip r:embed="rId6"/>
          <a:stretch/>
        </p:blipFill>
        <p:spPr>
          <a:xfrm>
            <a:off x="338040" y="4114800"/>
            <a:ext cx="245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apse of the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Next 50 years were plagued by civil w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First Triumvirat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: a government controlled by three people of equal pow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Crassus (Syria), Pompey (Spain), and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Julius Caesa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(Gaul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romanabc59"/>
          <p:cNvPicPr/>
          <p:nvPr/>
        </p:nvPicPr>
        <p:blipFill>
          <a:blip r:embed="rId2"/>
          <a:stretch/>
        </p:blipFill>
        <p:spPr>
          <a:xfrm>
            <a:off x="685800" y="1371600"/>
            <a:ext cx="7807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Julius Caesa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“Dictator for Life”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47440" y="2209680"/>
            <a:ext cx="5553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onquered mos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au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France) and gained popular support of legion and lots of mon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5" descr="Julius_Caesar_Biography_2"/>
          <p:cNvPicPr/>
          <p:nvPr/>
        </p:nvPicPr>
        <p:blipFill>
          <a:blip r:embed="rId2"/>
          <a:stretch/>
        </p:blipFill>
        <p:spPr>
          <a:xfrm>
            <a:off x="6248520" y="380880"/>
            <a:ext cx="2609640" cy="28958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http://www.usu.edu/markdamen/ClasDram/images/12/19map06caesar.jpg"/>
          <p:cNvPicPr/>
          <p:nvPr/>
        </p:nvPicPr>
        <p:blipFill>
          <a:blip r:embed="rId3"/>
          <a:stretch/>
        </p:blipFill>
        <p:spPr>
          <a:xfrm>
            <a:off x="1576440" y="3429000"/>
            <a:ext cx="5433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ivil War – Pompey vs. Caesa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ause - death of Crassus in 53 BC – left a political vacuum – now civil war between Pompey who aligned himself with Senate and Caesar who had power of the Ar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When he crossed the Rubicon River and attacked Rome – “the die was cast”.  He will defeat Pompe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2" name="Picture 2" descr="http://www.usu.edu/markdamen/ClasDram/images/12/19map06caesar.jpg"/>
          <p:cNvPicPr/>
          <p:nvPr/>
        </p:nvPicPr>
        <p:blipFill>
          <a:blip r:embed="rId4"/>
          <a:stretch/>
        </p:blipFill>
        <p:spPr>
          <a:xfrm>
            <a:off x="2438280" y="4057560"/>
            <a:ext cx="47815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239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Side Note – will have an affair with Cleopatra (of Egypt).  She will give birth to son with the first known Caesarian S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2" descr="http://upload.wikimedia.org/wikipedia/commons/4/49/1963_Cleopatra_trailer_screenshot_(34).jpg"/>
          <p:cNvPicPr/>
          <p:nvPr/>
        </p:nvPicPr>
        <p:blipFill>
          <a:blip r:embed="rId4"/>
          <a:stretch/>
        </p:blipFill>
        <p:spPr>
          <a:xfrm>
            <a:off x="838080" y="3595680"/>
            <a:ext cx="7543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8" name="Picture 5" descr="VincenzoCamuccini-The-Ides-of-March-1800"/>
          <p:cNvPicPr/>
          <p:nvPr/>
        </p:nvPicPr>
        <p:blipFill>
          <a:blip r:embed="rId1"/>
          <a:stretch/>
        </p:blipFill>
        <p:spPr>
          <a:xfrm>
            <a:off x="0" y="0"/>
            <a:ext cx="11810880" cy="65721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4114800" y="457200"/>
            <a:ext cx="4419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eb54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aimed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ctator for Lif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– Brutus (w/other senators) on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des of March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in 44 BC will assassinate him to preserve Republi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apse of the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w struggle for power followed Caesar’s dea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he Second Triumvir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Octavia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nephew)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arc Anton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ally), Lepidus (commander in Caesar’s caval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fter defeating the Senate Octavian and Antony go to civil war (over nominal idea that Antony cheating on Octavian’s sister and being too Eastern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2" name="Picture 4" descr="Lerouisse painting of Anthony and Cleopatra (18th century)."/>
          <p:cNvPicPr/>
          <p:nvPr/>
        </p:nvPicPr>
        <p:blipFill>
          <a:blip r:embed="rId4"/>
          <a:stretch/>
        </p:blipFill>
        <p:spPr>
          <a:xfrm>
            <a:off x="5791320" y="167652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attle of Actium – 31 B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74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c Antony’s forces defeated by Octavian, Cleopatra refused to be a prize in Octavian's triump killed herself with asp (snak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5" name="Picture 2" descr="http://tlongportfolio.files.wordpress.com/2010/01/the-battle-of-actium.jpg"/>
          <p:cNvPicPr/>
          <p:nvPr/>
        </p:nvPicPr>
        <p:blipFill>
          <a:blip r:embed="rId2"/>
          <a:stretch/>
        </p:blipFill>
        <p:spPr>
          <a:xfrm>
            <a:off x="1109520" y="3352680"/>
            <a:ext cx="6667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ctavian – renamed “Emperor” in 27 BC – End of Republic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8" name="Picture 2" descr="http://upload.wikimedia.org/wikipedia/commons/0/0b/UserDaanschrAugustus1.png"/>
          <p:cNvPicPr/>
          <p:nvPr/>
        </p:nvPicPr>
        <p:blipFill>
          <a:blip r:embed="rId1"/>
          <a:stretch/>
        </p:blipFill>
        <p:spPr>
          <a:xfrm>
            <a:off x="2362320" y="2666880"/>
            <a:ext cx="4105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Cooper Black"/>
              </a:rPr>
              <a:t>First Settl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Myt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enea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and other Trojans fled Troy when Mycenaeans attacked and moved to area of Rome. Gain Greek cultur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Between 800 – 750 BC group of farmers moved from central Europe to settle along Tiber Riv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9" name="Picture 5" descr="capitolinewolf"/>
          <p:cNvPicPr/>
          <p:nvPr/>
        </p:nvPicPr>
        <p:blipFill>
          <a:blip r:embed="rId1"/>
          <a:stretch/>
        </p:blipFill>
        <p:spPr>
          <a:xfrm>
            <a:off x="4495680" y="1828800"/>
            <a:ext cx="3976920" cy="27320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380880" y="5105520"/>
            <a:ext cx="4419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3 BC – Romulus and Remu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sons of Mars) found the city of Rom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952880" y="4952880"/>
            <a:ext cx="3592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Romulus and Remus fight over who names city.  Romulus kills Remu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oper Black"/>
              </a:rPr>
              <a:t>Early Problem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282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narchy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Established – 753-509 B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Very harsh, some foreign kings (Etruscans) ru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last king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rquin the Proud in 50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raped Lucretia, a noble daughter.  This outraged people who overthrew monarchy and established new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ublic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4" name="Picture 5" descr="lucretia"/>
          <p:cNvPicPr/>
          <p:nvPr/>
        </p:nvPicPr>
        <p:blipFill>
          <a:blip r:embed="rId1"/>
          <a:stretch/>
        </p:blipFill>
        <p:spPr>
          <a:xfrm>
            <a:off x="4876920" y="152280"/>
            <a:ext cx="409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dd39f"/>
                </a:solidFill>
                <a:latin typeface="Britannic Bold"/>
              </a:rPr>
              <a:t>Roman Republic</a:t>
            </a:r>
            <a:endParaRPr b="0" lang="en-US" sz="88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509 – 27 BC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cursushonorum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4419720" y="193680"/>
            <a:ext cx="4495680" cy="6677640"/>
          </a:xfrm>
          <a:prstGeom prst="rect">
            <a:avLst/>
          </a:prstGeom>
          <a:solidFill>
            <a:srgbClr val="e4e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oman  Republican Govern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ublic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all citizens choose lead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trician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class of wealthy landowners, controlled govt. and army (in beginn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beian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who could own land, but could not hold office or marry into patrician family. Will gain rights when become the major power in the arm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ave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– prisoners of war, no legal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4"/>
          <p:cNvSpPr/>
          <p:nvPr/>
        </p:nvSpPr>
        <p:spPr>
          <a:xfrm flipV="1" rot="10785600">
            <a:off x="228240" y="2513160"/>
            <a:ext cx="9446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e47"/>
                </a:solidFill>
                <a:latin typeface="Times New Roman"/>
              </a:rPr>
              <a:t>All offices are one year terms with 10 years required between off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5-Point Star 6"/>
          <p:cNvSpPr/>
          <p:nvPr/>
        </p:nvSpPr>
        <p:spPr>
          <a:xfrm>
            <a:off x="8229600" y="1751040"/>
            <a:ext cx="76212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sitions of Authority - Patricia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19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su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(2 a year) – chief magistrates who convened and presided ove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nate </a:t>
            </a: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(300 men who owned lands) and assemblies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initiated and administered legislation,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served as generals in military campaigns, and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represented Rome in foreign affairs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could appoint and/or serve as </a:t>
            </a:r>
            <a:r>
              <a:rPr b="1" lang="en-US" sz="1800" spc="-1" strike="noStrike">
                <a:solidFill>
                  <a:srgbClr val="2f2b2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ctato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or up to 6 months in times of emergency when the constitution was suspend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When their term of office was completed, consuls usually governed a province as </a:t>
            </a:r>
            <a:r>
              <a:rPr b="1" lang="en-US" sz="1800" spc="-1" strike="noStrike">
                <a:solidFill>
                  <a:srgbClr val="2f2b2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consul (gained a lot of wealth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3" name="5-Point Star 5"/>
          <p:cNvSpPr/>
          <p:nvPr/>
        </p:nvSpPr>
        <p:spPr>
          <a:xfrm>
            <a:off x="57240" y="1752480"/>
            <a:ext cx="76176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sition of Authority – Plebeia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ribune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10 of them.  Had the power to veto legislation of Senat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ght for and gained the right to have the laws written down –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welve Table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cause Patricians feared the army would go on strike without laws. (Key idea of 12 tables i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“innocent until proven guilty”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a new concept in law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6" name="5-Point Star 1"/>
          <p:cNvSpPr/>
          <p:nvPr/>
        </p:nvSpPr>
        <p:spPr>
          <a:xfrm>
            <a:off x="57240" y="2895480"/>
            <a:ext cx="761760" cy="762120"/>
          </a:xfrm>
          <a:custGeom>
            <a:avLst/>
            <a:gdLst/>
            <a:ahLst/>
            <a:rect l="l" t="t" r="r" b="b"/>
            <a:pathLst>
              <a:path w="762000" h="762000">
                <a:moveTo>
                  <a:pt x="1" y="291057"/>
                </a:moveTo>
                <a:lnTo>
                  <a:pt x="291060" y="291059"/>
                </a:lnTo>
                <a:lnTo>
                  <a:pt x="381000" y="0"/>
                </a:lnTo>
                <a:lnTo>
                  <a:pt x="470940" y="291059"/>
                </a:lnTo>
                <a:lnTo>
                  <a:pt x="761999" y="291057"/>
                </a:lnTo>
                <a:lnTo>
                  <a:pt x="526526" y="470940"/>
                </a:lnTo>
                <a:lnTo>
                  <a:pt x="616470" y="761998"/>
                </a:lnTo>
                <a:lnTo>
                  <a:pt x="381000" y="582112"/>
                </a:lnTo>
                <a:lnTo>
                  <a:pt x="145530" y="761998"/>
                </a:lnTo>
                <a:lnTo>
                  <a:pt x="235474" y="470940"/>
                </a:lnTo>
                <a:lnTo>
                  <a:pt x="1" y="29105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7b78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Twelve Tables</a:t>
            </a:r>
            <a:br>
              <a:rPr sz="4600"/>
            </a:br>
            <a:r>
              <a:rPr b="0" lang="en-US" sz="4600" spc="-1" strike="noStrike">
                <a:solidFill>
                  <a:srgbClr val="dfdcb7"/>
                </a:solidFill>
                <a:latin typeface="Cooper Black"/>
              </a:rPr>
              <a:t>Law Code (451 BC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laintiff summons defendant to court, he shall go. If he does not go, plaintiff shall call witness thereto. Then only shall he take defendant by for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eadfully deformed child shall be quickly kill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father surrenders his son for sale three times, the son shall be free from his fath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ild born after ten months since the father's death will not be admitted into a legal inherit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0" name="Rounded Rectangular Callout 1"/>
          <p:cNvSpPr/>
          <p:nvPr/>
        </p:nvSpPr>
        <p:spPr>
          <a:xfrm>
            <a:off x="1371600" y="5715000"/>
            <a:ext cx="3581280" cy="914400"/>
          </a:xfrm>
          <a:prstGeom prst="wedgeRoundRectCallout">
            <a:avLst>
              <a:gd name="adj1" fmla="val 38138"/>
              <a:gd name="adj2" fmla="val -352500"/>
              <a:gd name="adj3" fmla="val 16667"/>
            </a:avLst>
          </a:prstGeom>
          <a:solidFill>
            <a:srgbClr val="00b0f0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terfamilias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a father has control over his fami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08:49:11Z</dcterms:created>
  <dc:creator>Anne Jean Lyons</dc:creator>
  <dc:description/>
  <dc:language>en-US</dc:language>
  <cp:lastModifiedBy>Windows User</cp:lastModifiedBy>
  <cp:lastPrinted>2012-12-10T19:31:49Z</cp:lastPrinted>
  <dcterms:modified xsi:type="dcterms:W3CDTF">2016-12-05T15:43:38Z</dcterms:modified>
  <cp:revision>37</cp:revision>
  <dc:subject/>
  <dc:title>PowerPoint Presentation</dc:title>
</cp:coreProperties>
</file>